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28E-E282-45C0-ACC4-8046619D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F3D-7D10-4888-BA2F-F0E8CFCE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E60-4D7D-4527-9A38-FA6AB7E4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3D8-F67D-4FE1-8CBF-C93B970B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512D-766C-4D36-A54E-EC5098DD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DC88-3183-4FAD-BAFC-9692AEB8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3D64-C0F4-4C8C-8D2D-25D42998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B7C0-1C7D-4FAC-A1DC-0512A838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3E09-A233-4C83-8AF7-077F9B3F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07A3-A6EE-4B4D-9410-1BF11166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E6DA-350E-41AC-8B4B-A9AFC2D4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574-4880-4548-B193-42896CD8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A6C1-66E2-4DE1-A368-63C66F8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FBF5-2E9E-4BE9-8F32-4A67D86D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C8E3-0FE8-4135-A1E5-733024B3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BA5-4EB9-409A-B26A-74A9DBB4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9F42-0E2A-4073-8183-569C9295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455-6FE9-41F4-928D-82C35D5F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658-12BE-4DF6-899D-4BD0B2E9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7DC-8C1E-450D-8CE6-0EDBEA37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C49-2B57-4D1E-9261-DC7674F7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043-9B7A-44E5-ADD2-798BA2B1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A6B-8329-4474-86EC-2D0405A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59F-9085-4013-8AC1-5F45FE50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56DC-30BB-4961-9F77-3B4C4C6B29A0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6262-058D-4F89-8089-0A2E9A5931A9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llbhuna.co.uk/images/" TargetMode="External"/><Relationship Id="rId2" Type="http://schemas.openxmlformats.org/officeDocument/2006/relationships/hyperlink" Target="http://www.acmepro.eu/en/catalog/speaker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66"/>
                </a:solidFill>
                <a:latin typeface="Arial"/>
              </a:rPr>
              <a:t>Interfenţa undelor mecanice. Unde staţionare. Aplicaţi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ezentare - el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38080" y="3657600"/>
            <a:ext cx="7809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09480" y="1763640"/>
            <a:ext cx="44197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.Ce rost are să studiem undel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Unde se întâlneşte i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ferenţa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35049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533520" y="2743200"/>
            <a:ext cx="53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numeşte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</a:rPr>
              <a:t>interferenţă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compunerea mai multor unde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2403360" cy="1614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Interferenţa undelor mecanic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865080" y="175248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terferenţa pe o coardă duce la formarea undelor staţionar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Unde staţionare pe o coardă elastică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79396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3448080" cy="164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30448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Armonici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2157120" cy="315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3657600" y="3276720"/>
            <a:ext cx="4734000" cy="2828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865080" y="1752480"/>
            <a:ext cx="8278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 coardă care vibrează emite, alături de armonica fundamentală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 armonici, de frecvenţe duble, triple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Tuburi sonor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65080" y="1752480"/>
            <a:ext cx="8278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3200400" cy="23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5381640" cy="222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2109960" cy="27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4495680" y="4267080"/>
            <a:ext cx="3505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Caracteristicile sunetelor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65080" y="1752480"/>
            <a:ext cx="8278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acteristicile sunetelor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ălţi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tensit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imbru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54312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Bibliografi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fullbhuna.co.uk/images/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://www.acmepro.eu/en/catalog/speakers/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critube.com/stiinta/fizica/Surse-sonore15415102111.ph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d3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caziuc.ro/Orga_harman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drobetaturnuseverin.olx.ro/vand-pian-orga-electronica-cu-clape-yamaha-psr-220-iid-32545307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2-15T20:10:00Z</dcterms:modified>
  <cp:revision>406</cp:revision>
  <dc:subject/>
  <dc:title>Evaluare_initiala</dc:title>
</cp:coreProperties>
</file>